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CE7-07B8-4374-9C57-EE9DE2A3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DC7-5AAE-4587-8C54-547FC546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B4B-3BCA-44F1-B2DD-60495081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9A1-E451-498C-AC9D-7553FBF1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B8F-3725-4F72-B4BF-F5364EF3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A71-6789-4750-9FDF-D5F467A5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22B-4B9A-41B0-921A-22648492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05B-342E-4DDF-A6FB-2C2A35D9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46C-FFC9-4751-ABFB-3E86DA07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45D-B190-40A9-8E81-978C9B3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101-ABEF-4247-8547-CCA6620B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4EB-9504-4EF1-85E7-F173695F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1649-FD20-4D28-A268-B738B869F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rder of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5160" y="1905120"/>
            <a:ext cx="9078840" cy="220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281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grou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138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iv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581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sing the Orde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9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891540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20" y="1077840"/>
            <a:ext cx="9123480" cy="2351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2286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362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228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1722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458200" cy="598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7369200" cy="4297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3429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10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352680"/>
            <a:ext cx="9144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5334120"/>
            <a:ext cx="8380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522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sing Grouping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05560" cy="4597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3880" y="1447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962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3716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388620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958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381880" cy="22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6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44:28Z</dcterms:created>
  <dc:creator>Susannah Graham</dc:creator>
  <dc:description/>
  <dc:language>en-US</dc:language>
  <cp:lastModifiedBy>Graham</cp:lastModifiedBy>
  <dcterms:modified xsi:type="dcterms:W3CDTF">2011-08-18T12:54:49Z</dcterms:modified>
  <cp:revision>3</cp:revision>
  <dc:subject/>
  <dc:title>Lesson 1.2 The Order of Operations</dc:title>
</cp:coreProperties>
</file>